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73FF-9A54-4C1F-B225-459EA1218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FA12-12DF-403E-8EFA-0A1ABB1D42F0}" type="slidenum">
              <a:rPr b="0" lang="en-GB" sz="1200" spc="-1" strike="noStrike">
                <a:solidFill>
                  <a:srgbClr val="1d175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F686-F7D7-4D52-B149-64709FF8EB2B}" type="slidenum">
              <a:rPr b="0" lang="en-US" sz="1200" spc="-1" strike="noStrike">
                <a:solidFill>
                  <a:srgbClr val="1d17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1F32-590E-4928-AFC2-159B3A7F27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EC07-3AFA-4704-9378-76001C20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B4CE27-ED31-463F-8083-75125D24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647E09-9656-4A3A-96FF-2C1E76BD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702010-2C8D-4817-9A55-DA7DC060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F3CD9B-4564-4F35-8BDA-A874DDE2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0EEC90-4379-4A1F-A6BE-B1917505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FD9743-54D2-4C54-92BE-537C16C2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6813AB-1054-44AB-BBCD-EB424763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A5C052-99A0-47DB-BFF5-30555E2F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08FAB1-6379-40B5-8EF3-3C11478E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75BB23-AE28-481D-A09D-F1F91631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D647-5D75-44D7-8349-E5E48234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1E49F7-3718-49A3-AEBB-F6FC96A9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6E0EF7-3B8D-4722-9E54-5B3677D6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86A575-4886-40CD-A1A5-DF06DFC3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043518-6018-4A51-906B-31F71DC7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DB7A58-1B8F-4A93-8190-74331F0B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87FF47-E98C-4951-8911-39EB693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E1834B-BA54-4092-9AFF-A3F734DC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C68A03-04D1-466F-B889-C1D7EB3A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005C10-70A6-4D08-9D7D-4A41C9EA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5F150C-1B81-4383-9009-2B37ED45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B510-7385-46A0-B495-5AD8B5E164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1D93C2-80EB-4F88-A10E-22CA4AE2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10B17A-2183-4822-ACE0-9FDEB485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A4AF1D-C0C5-4643-8317-DE7A25A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794776-9676-4BF0-A2C8-3C15FA95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D0965E-E2E0-4704-94E6-2E00BCAF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0A302C-21D0-4607-AE31-8F34C14D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2C09E0-2B50-4BE4-AD14-E8B94A18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7DE320-22D3-4E61-831F-D95B90D9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740648-1A3F-452A-81F4-33300C5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A14AF2-289B-4C0B-A858-AC83D028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DA4C8-26AD-4BFA-B5D0-8086F3CE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232737-0993-4DF2-87B9-CECD3188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928D42-C02F-48DC-AA2B-6368EF15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2FA121-E218-4B73-B110-A9D6B2B7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8783BF-1C08-4619-B684-FC338A30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D9B27E-EA43-495A-AD9A-0110D6B2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DBF04E-628D-4A51-995E-772354F6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9619C8-07C6-44F0-88BD-F23B5DCB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FDBB07-32C0-4956-A0CF-8ED608BB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A98819-D57F-4992-B561-4632BC4E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821335-20E8-4A11-B401-39335F59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1F2C3-F56F-4CE6-8BC0-0857DF06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586026-0A24-4BBE-9DAE-E78A36C1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7FF8F6-731D-41F2-83B8-70B6F5A2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005B65-6C22-4319-A15B-C1662217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EEB755-DC5E-4507-86F6-799B1970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E641E1-C577-440F-A523-E4B19DB8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0E03C-C723-4FD7-A6CC-5435F4AA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C7DAF-1CF1-46A7-8618-816B7CA6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C65A8-CCBA-442D-AAED-2E916740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8993E-F476-433C-B37D-A8F7DB05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A66B9-B667-47C4-A961-1FABADA0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55F8-C36F-4031-A20D-D1472A37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EBE03-DA6A-44FB-83F8-B11254A4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31C0E-4CF1-43B9-82F3-D4BF7CE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76F26-901C-4555-B069-8CDD6846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63CE8-186C-4D5B-88F8-8768E518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F14FB-5571-44DE-AD6B-B2DC7123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B4845-A0B8-4D47-9187-3EE600DE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B8109-1472-424D-86BE-30D5419C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081A7-B952-4631-894C-351626C9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FF961-2131-42CC-BE7C-7558A10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C3B78-BAF2-485C-9146-ED5A57A9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6A20-C0DB-45F6-ABBD-DD0CF3D7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3D2D0-4E05-4E64-B506-1D986961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830CD-4841-42E5-8F4D-D96AAC0C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63865-550F-4ACB-8C1E-249ED451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2F6CE-8990-483D-9D80-5DA086DC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6B89F-118B-4C0F-8872-4DD68F8E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864C1-4364-4CE9-802C-134B7090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C63D3-4C18-4BAB-A007-D3B85F25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47112-A270-46DD-835D-62BE82F1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CF486-093A-442B-9179-CCDB237D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E9693-BCE0-43E8-BE8A-EFD6643E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C2C9-EC21-469D-A9EB-F4428C42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9E563-2321-475A-A415-DC65175B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48170-96F3-43EB-A062-75763286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F44B7-B1EC-4CED-B3E6-0D0C385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EFEBA-3461-43A1-BC9E-0BA50BDF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90602-951C-42A6-A113-7DF4AEB2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1246E-49B6-46FF-A0F9-B726782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11D88-733A-4B59-92D6-588C6A59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E28B3-4818-4449-B674-4091C599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C3CD6-9FC3-4038-BE7E-3E629FBE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45570-2148-48F5-A75E-B50C74FF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1F81-F8C7-4DC8-8F7D-817EC6E7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31CEF-2BF4-4080-A931-972A7B06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57CF5-3F07-45E3-9EFC-02F01751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906AA8-8A8F-4CD7-94B2-7D8CF474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8DC2C-E3CF-4FE5-82C2-293D0050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5CA07-9F8A-46C3-8594-9FF1BC64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5ACA2-C4B9-4976-A3E1-D934C4A7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7315D-F375-44EB-AD29-B9D29AAF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D4837-89ED-4E9D-8F6F-57289CAE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48000-6539-46C0-9CA5-149CC06A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F9B48-4E2F-404D-8768-7A870297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3309-192B-47E3-9C64-6C5BE38C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CCCA8-3DF4-4109-85C2-ABBA1E0D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E3C58-5BB0-4AA9-83D6-67BA2B8A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C2A4D-8557-4E61-B31C-AF8C29E1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07D86-0730-4E44-98C8-070975CD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FD768-D586-445E-9B01-0429A910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24ECE-F2A1-4FAD-A5CD-467C7CA9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3BBC2-3139-413D-90F6-CBE965D6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A5ABA-72A2-4396-9BE2-6F8AFDF9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596B9-730D-40C4-B37D-993A96F7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25759-82FF-4027-8C1D-09090075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AD50-9FA1-437A-8415-A115E913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2E99C-B552-4D9F-BBAC-A71DB18D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088F4-0A81-478F-8874-89EABDF2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C09E7-6929-484F-8D4F-C9A63E63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7B38DA-AE83-406D-BA3A-4381D362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D23075-EB46-4746-8D23-D7DED241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901C87-A944-4E23-8C0B-129F2615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7F10E-B627-47C9-B9AE-DA4933F5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81E62-F134-4EA7-96C7-74DDB54E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4539A-F21C-45A7-AF05-C0B89C10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E1D160-3CD4-4E4A-AD54-303584F0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CE38-2D34-4117-ABAB-96F1E570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69273-CAE1-43A7-A6E1-78DA51B8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C2730-D92D-4CDA-89C6-D40720A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84D6A-1D8D-48AC-B64E-63806CFF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05873-1846-4C10-B175-C10A2806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1A76C7-F54B-4CA5-ABCA-6B55CB9D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74FFC-1450-41EC-A442-ED8307BC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CE35E2-D44F-4C10-80CB-4A314B7D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A2FCB-D1E3-44AD-9456-18277BD2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57DAD4-8910-4004-8BF4-59B3B54E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E3CDBD-F5F9-44F5-A080-1A1A3A2F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2A96-BF88-44B1-B851-61EB8CAB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569CE8-5234-4080-8201-8735B9F3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575237-76C4-4899-AF1D-9BE59FB3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A823AD-8580-4987-BE9E-37FE55D3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62A878-263D-4C7B-9E4B-EF1E07D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AB0B8A-87C5-4E46-9FF5-5F157B3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523415-FA51-4A13-B35F-11F5E262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034B1-C206-41B2-AFA3-47F8A4D8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CBE42F-08D5-447B-ABE5-4D869C87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8AC51C-4C3D-4146-9C99-7A7D68E0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A6AC65-5B90-43FC-AC67-49AFCFF3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71F6-6163-4265-9B17-AA27BD0B4231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9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D294-9D8C-41C5-A1D0-5BFC1EA23192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2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2005-D7E9-43A0-8C53-C0CDB3E4CDE0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3"/>
          </p:nvPr>
        </p:nvSpPr>
        <p:spPr>
          <a:xfrm>
            <a:off x="3505320" y="632412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4"/>
          </p:nvPr>
        </p:nvSpPr>
        <p:spPr>
          <a:xfrm>
            <a:off x="58672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2690-1135-467D-AEB0-341FE8E1322C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483C-D51A-4B83-BFA5-B71BA375FB6B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085F-DB51-4016-81CD-6D8C64F8B1FF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B89F-74A4-46F1-949F-D3B5E8C58EA6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D732-467D-4C19-B073-F3709930A009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1698-6C55-43D1-81ED-33226AB9D5A0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7974-1429-4888-BC0C-4CF352BBEBE1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9B48-723F-4FC1-BFC3-D724DC45A99C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409B-D500-488B-ACC9-AF5F5A41EE6E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8"/>
          <p:cNvSpPr/>
          <p:nvPr/>
        </p:nvSpPr>
        <p:spPr>
          <a:xfrm>
            <a:off x="304920" y="1905120"/>
            <a:ext cx="8534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d1756"/>
                </a:solidFill>
                <a:uFillTx/>
                <a:latin typeface="Calibri"/>
                <a:ea typeface="Arial"/>
              </a:rPr>
              <a:t>Obj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What children will learn or accomplish?(specific goal/objective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Standard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Which standard will I meet?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TCCO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Which Curriculum Objective will I use to meet the Standard? (</a:t>
            </a: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Curriculum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drives the instruction to meet the </a:t>
            </a: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Standard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Activity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What activity will I plan to teach the skill?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Procedure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How will I teach?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                      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Beginning of the lesson: Introduce the lesson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                      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During the lesson: Involve children actively participate into the lesson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                      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End of lesson: How do I know the children learn (quick assessment as 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     children transition to the next activity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 </a:t>
            </a:r>
            <a:r>
              <a:rPr b="1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Materials: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What will I use to teach?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  <a:ea typeface="Arial"/>
              </a:rPr>
              <a:t>Lesson Planning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304920" y="228600"/>
          <a:ext cx="8610480" cy="6323040"/>
        </p:xfrm>
        <a:graphic>
          <a:graphicData uri="http://schemas.openxmlformats.org/drawingml/2006/table">
            <a:tbl>
              <a:tblPr/>
              <a:tblGrid>
                <a:gridCol w="4190760"/>
                <a:gridCol w="4419720"/>
              </a:tblGrid>
              <a:tr h="549000">
                <a:tc gridSpan="2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               </a:t>
                      </a:r>
                      <a:r>
                        <a:rPr b="1" lang="en-US" sz="3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mall Group Lesson</a:t>
                      </a:r>
                      <a:endParaRPr b="0" lang="en-US" sz="3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                                      </a:t>
                      </a: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Group 1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Group 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108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Learning Objective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be able to name few basic two-dimensional shapes.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ctivity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raw Shape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Procedure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troduce the shapes (triangle and square) to the students. 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then demonstrate how to use the straws to form triangle and square.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to create shapes with the straws to match a shape they see on the tabl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take turn to pick two shapes and name them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aterials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ITC-M42, geometric  shapes (tangrams), and straws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andard 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M 4.4.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CCO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21 b. 3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Learning Objective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be able to identify and describe basic shapes when moved, turned, and 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ctivity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raw Shape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Procedure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the students to take a look at the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angrams (triangle, square, and rectangle) let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explor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talk about the names of the shapes and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what their attributes ar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name shapes when moved,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urned, and 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to make their own shapes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nd describe the shapes when moved, turned and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aterials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ITC-M42 : geometric  shapes(tangrams) and straws/pipe cleaner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andard 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. 4.4.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CCO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21b. 5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04920" y="304920"/>
            <a:ext cx="849456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756"/>
                </a:solidFill>
                <a:latin typeface="Constantia"/>
              </a:rPr>
              <a:t>Sample WGL Plan </a:t>
            </a:r>
            <a:endParaRPr b="0" lang="en-US" sz="2400" spc="-1" strike="noStrike">
              <a:solidFill>
                <a:srgbClr val="1d1756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756"/>
                </a:solidFill>
                <a:latin typeface="Constantia"/>
              </a:rPr>
              <a:t>(PreK-</a:t>
            </a:r>
            <a:r>
              <a:rPr b="1" lang="en-US" sz="2000" spc="-1" strike="noStrike">
                <a:solidFill>
                  <a:srgbClr val="1d1756"/>
                </a:solidFill>
                <a:latin typeface="Calibri"/>
              </a:rPr>
              <a:t>4)</a:t>
            </a:r>
            <a:endParaRPr b="0" lang="en-US" sz="20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onstantia"/>
              </a:rPr>
              <a:t>Activity:  Trees Count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Learning Objective: Students will recognize words that rhyme in a text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Procedures: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mind children that rhyming words have the same ending sound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ad pg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3 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and emphasize the words that rhyme (fun/one) and children will repeat the words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ad each page and ask children to say the words that rhyme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close the lesson by asking children to recall rhyming words from the text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If children are able, T will ask them to </a:t>
            </a:r>
            <a:r>
              <a:rPr b="1" i="1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produce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 additional rhyming words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Materials: Trees Count (Big book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TCCO: 15a (Notices and discriminates rhyme)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onstantia"/>
              </a:rPr>
              <a:t>RF.PK.2a (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Recognize and produce simple rhyming words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5:40:28Z</dcterms:created>
  <dc:creator>ggarbeck</dc:creator>
  <dc:description/>
  <dc:language>en-US</dc:language>
  <cp:lastModifiedBy>Asma, Farida</cp:lastModifiedBy>
  <cp:lastPrinted>2014-11-04T20:09:28Z</cp:lastPrinted>
  <dcterms:modified xsi:type="dcterms:W3CDTF">2015-10-07T00:01:47Z</dcterms:modified>
  <cp:revision>194</cp:revision>
  <dc:subject/>
  <dc:title>Slide 1</dc:title>
</cp:coreProperties>
</file>